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33B-D0D9-438F-91CF-96832FE8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E4F-38BE-4650-85BC-97E6242C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3AF-E21F-4529-BEA8-3D18CE04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3F0-331A-4237-BF46-FD6B8609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9D5D-7EBC-48FA-9149-7906BA54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08DF-937E-42FD-85E3-6BDA5B1F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2D20-7732-4C8B-95E3-95FED2E9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72B5-3417-4442-A0FD-790B23E6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422A-AE60-403C-8788-C3F4B47B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065B-EB75-4ECF-8D72-C864AE90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F025-A904-422D-A6D9-0CCAD43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53A-AFCD-44B1-AF4B-FDACD35F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BDD3-DDCE-476E-9404-BFD011CD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7E6-DF52-4E70-BF8E-2E631622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DE1E-EEB3-4766-AC4A-3B222FE3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9C34-EEFE-468F-AECE-E9B2DAD4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187F-8AE1-44F0-8AC2-80A7C07F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F28-3B3A-4113-8DEA-8CE37B97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509-133B-4E4E-ADCA-49041B4A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FFC-7275-4B1F-B93F-5632C2DF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DD0-DBC9-4422-87B6-34A6B6C0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BF8-5FD6-4042-989E-ACFA418C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522-42C3-4F7D-8D59-57A0EA81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593-E67E-47C2-9DEC-4673FB99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C6C6-5767-4C95-A9A7-60D2B9B1DDC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3B05-7B8E-4BC8-AAA8-1E2F9303360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image" Target="../media/image3.png"/><Relationship Id="rId11" Type="http://schemas.openxmlformats.org/officeDocument/2006/relationships/slide" Target="slide7.xm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ема:Синонимы и 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691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втор: Субботин Сергей Владимирович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ченик 5 класса «Русской гимназии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Для чего нужны 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Контекстуальные синонимы</a:t>
            </a:r>
            <a:r>
              <a:rPr b="0" lang="ru-RU" sz="4800" spc="-1" strike="noStrike" u="sng">
                <a:solidFill>
                  <a:srgbClr val="f0b854"/>
                </a:solidFill>
                <a:uFillTx/>
                <a:latin typeface="Arial"/>
                <a:hlinkClick r:id="rId7" action="ppaction://hlinksldjump"/>
              </a:rPr>
              <a:t>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9" action="ppaction://hlinksldjump"/>
              </a:rPr>
              <a:t>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11" action="ppaction://hlinksldjump"/>
              </a:rPr>
              <a:t>Для чего нужны 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ин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– это слова, которые имеют схожее лексическое значение, но пишутся и звучат по-разному (например, дом – здание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нужны, чтобы обогатить нашу речь, чтобы она была разнообразной и ярк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акже синонимы помогают нам избежать повторов, тавтологи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онтекстуальные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онтекстуальные синонимы – это слова, сближение которых по значению происходит лишь в условиях определенного контекста, причем за пределами этого контекста они не являются синонимами (например, «День был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августовский, знойный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омительн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скучный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»-А.П.Чехов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– это слова, которые имеют противоположные лексические значения (например, «большой – маленький; высоко – низко»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антонимы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, как и синонимы, нужны нам для того, чтобы наша речь была богатой, разнообразной, жив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помогают нам избежать повторов в реч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as</cp:lastModifiedBy>
  <dcterms:modified xsi:type="dcterms:W3CDTF">2010-05-18T06:41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